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692900" cy="10047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A13-2015-475F-956C-02E849F0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C2C-8629-4851-A89E-30DA169C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78C-3F52-40D1-8CA5-BFF17D4B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DC2-0F45-42DE-A188-B6F363B5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AAB-49EB-478E-A082-DEE9FBB6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5CB-9335-4C9A-A5A3-F199728B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6D2-91F8-42E7-8C7A-EF561167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A67-AEB2-4982-B30C-BACDF38C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A0C-4949-4750-A614-B38B98EC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F013-B893-4444-8E6C-7401D55B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6FB-8736-43F7-96CA-3B219DD9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52BD-F73A-4BDD-8AEB-B4BA2C18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818C-6DFB-4940-9EDC-26F74758E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45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graphicFrame>
        <p:nvGraphicFramePr>
          <p:cNvPr id="46" name=""/>
          <p:cNvGraphicFramePr/>
          <p:nvPr/>
        </p:nvGraphicFramePr>
        <p:xfrm>
          <a:off x="1397160" y="1793880"/>
          <a:ext cx="6524640" cy="39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7160" y="1793880"/>
                    <a:ext cx="652464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486400" y="2057400"/>
            <a:ext cx="22096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lbertus Medium"/>
              </a:rPr>
              <a:t>ALLA CUL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lbertus Medium"/>
              </a:rPr>
              <a:t>D’I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47,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2438280"/>
            <a:ext cx="2210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lbertus Medium"/>
              </a:rPr>
              <a:t>ALLA CUL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lbertus Medium"/>
              </a:rPr>
              <a:t>IN GENE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52,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0440" y="355680"/>
            <a:ext cx="708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lbertus Medium"/>
              </a:rPr>
              <a:t>1 - PENSANDO ALLA SUA REALTA’ AZIENDA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lbertus Medium"/>
              </a:rPr>
              <a:t>A COSA ASSOCIA IL TERMINE “CULTURA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140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graphicFrame>
        <p:nvGraphicFramePr>
          <p:cNvPr id="141" name=""/>
          <p:cNvGraphicFramePr/>
          <p:nvPr/>
        </p:nvGraphicFramePr>
        <p:xfrm>
          <a:off x="304920" y="1676520"/>
          <a:ext cx="152388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676520"/>
                    <a:ext cx="15238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523880" y="18288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lbertus Medium"/>
              </a:rPr>
              <a:t>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lbertus Medium"/>
              </a:rPr>
              <a:t>58,7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5238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lbertus Medium"/>
              </a:rPr>
              <a:t>NO, MA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lbertus Medium"/>
              </a:rPr>
              <a:t>41,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76520" y="1143000"/>
          <a:ext cx="7391160" cy="502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1143000"/>
                    <a:ext cx="73911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43600" y="380880"/>
            <a:ext cx="755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6a - LA SUA AZIENDA HA MAI SOSTENUTO INIZIATI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CULTURALI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152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466920" y="380880"/>
            <a:ext cx="785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66"/>
                </a:solidFill>
                <a:latin typeface="Albertus Medium"/>
              </a:rPr>
              <a:t>6b - PERCHE’ LA SUA AZIENDA NON HA MAI SOSTENU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66"/>
                </a:solidFill>
                <a:latin typeface="Albertus Medium"/>
              </a:rPr>
              <a:t>INIZIATIVE CULTURALI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8760" y="1143000"/>
          <a:ext cx="8889840" cy="563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760" y="1143000"/>
                    <a:ext cx="8889840" cy="56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8381880" y="4648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161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584640" y="380880"/>
            <a:ext cx="767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7 - CHE GENERE DI INIZIATIVE CULTURALI SONO 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SOSTENUTE DALLA SUA AZIEND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000080" y="1746360"/>
          <a:ext cx="7238880" cy="401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1746360"/>
                    <a:ext cx="72388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438280" y="4419720"/>
            <a:ext cx="15242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lbertus Medium"/>
              </a:rPr>
              <a:t>ENTRAM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lbertus Medium"/>
              </a:rPr>
              <a:t>16,9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2438280"/>
            <a:ext cx="2057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lbertus Medium"/>
              </a:rPr>
              <a:t>INTERVEN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lbertus Medium"/>
              </a:rPr>
              <a:t>STRUTTUR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lbertus Medium"/>
              </a:rPr>
              <a:t>6,8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190512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lbertus Medium"/>
              </a:rPr>
              <a:t>EV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lbertus Medium"/>
              </a:rPr>
              <a:t>76,3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548640" y="380880"/>
            <a:ext cx="79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7a  - CHE GENERE DI INIZIATIVE CULTURALI SONO 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SOSTENUTE DALLA SUA AZIEND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62120" y="1600200"/>
          <a:ext cx="152388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00200"/>
                    <a:ext cx="15238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57200" y="2362320"/>
            <a:ext cx="830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lbertus Medium"/>
              </a:rPr>
              <a:t>ENTRAM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lbertus Medium"/>
              </a:rPr>
              <a:t>16,9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1371600"/>
            <a:ext cx="914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lbertus Medium"/>
              </a:rPr>
              <a:t>INTERVENT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lbertus Medium"/>
              </a:rPr>
              <a:t>STRUTTUR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lbertus Medium"/>
              </a:rPr>
              <a:t>6,8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1447920"/>
            <a:ext cx="6094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lbertus Medium"/>
              </a:rPr>
              <a:t>EVE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lbertus Medium"/>
              </a:rPr>
              <a:t>76,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20960" y="1447920"/>
          <a:ext cx="7032600" cy="469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20960" y="1447920"/>
                    <a:ext cx="703260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185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343440" y="380880"/>
            <a:ext cx="82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7b - CHE GENERE DI INTERVENTI STRUTTURALI SONO STA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SOSTENUTI DALLA SUA AZIENDA? </a:t>
            </a:r>
            <a:r>
              <a:rPr b="1" i="1" lang="en-US" sz="2200" spc="-1" strike="noStrike">
                <a:solidFill>
                  <a:srgbClr val="003366"/>
                </a:solidFill>
                <a:latin typeface="Albertus Medium"/>
              </a:rPr>
              <a:t>(Risposte multip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04920" y="965160"/>
          <a:ext cx="8534160" cy="556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965160"/>
                    <a:ext cx="853416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7924680" y="4876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194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795240" y="380880"/>
            <a:ext cx="73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7c - CHE GENERE DI EVENTI CULTURALI SONO STA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SOSTENUTI DALLA SUA AZIENDA? </a:t>
            </a:r>
            <a:r>
              <a:rPr b="1" i="1" lang="en-US" sz="2200" spc="-1" strike="noStrike">
                <a:solidFill>
                  <a:srgbClr val="003366"/>
                </a:solidFill>
                <a:latin typeface="Albertus Medium"/>
              </a:rPr>
              <a:t>(Risposte multip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01000" y="5029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1447920"/>
          <a:ext cx="8839080" cy="47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47920"/>
                    <a:ext cx="88390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203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438840" y="563400"/>
            <a:ext cx="78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8 - SI TRATTA DI INIZIATIVE IDEATE E/O ORGANIZZAT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920880" y="1905120"/>
          <a:ext cx="7508880" cy="412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880" y="1905120"/>
                    <a:ext cx="750888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523880" y="1752480"/>
            <a:ext cx="2438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lbertus Medium"/>
              </a:rPr>
              <a:t>DIRETT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lbertus Medium"/>
              </a:rPr>
              <a:t>DALL’AZI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lbertus Medium"/>
              </a:rPr>
              <a:t>29,7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3276720"/>
            <a:ext cx="28195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lbertus Medium"/>
              </a:rPr>
              <a:t>DA REALTA’ ESTER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lbertus Medium"/>
              </a:rPr>
              <a:t>ALL’AZI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lbertus Medium"/>
              </a:rPr>
              <a:t>70,3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H="1">
            <a:off x="0" y="152388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213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1138320" y="380880"/>
            <a:ext cx="650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9 - SECONDO QUALI CRITERI LA SUA AZIEN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SELEZIONA E DEFINISCE IL TIPO D’INIZIATIV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CULTURALE A CUI ADERIRE O DA GESTIR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22120" y="1555920"/>
          <a:ext cx="8794800" cy="474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2120" y="1555920"/>
                    <a:ext cx="879480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8153280" y="48006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 flipH="1">
            <a:off x="0" y="152388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222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542520" y="533520"/>
            <a:ext cx="782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10 - RITIENE CHE LE RISORSE ECONOMICHE CHE LA SU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AZIENDA DESTINA ALLE ATTIVITA’ CULTURALI SIANO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00080" y="1905120"/>
          <a:ext cx="7350120" cy="41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1905120"/>
                    <a:ext cx="735012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685800" y="3200400"/>
            <a:ext cx="1828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lbertus Medium"/>
              </a:rPr>
              <a:t>NON IN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lbertus Medium"/>
              </a:rPr>
              <a:t>5,1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4495680"/>
            <a:ext cx="2057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lbertus Medium"/>
              </a:rPr>
              <a:t>INSUFFICI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lbertus Medium"/>
              </a:rPr>
              <a:t>27,1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2057400"/>
            <a:ext cx="1981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lbertus Medium"/>
              </a:rPr>
              <a:t>SUFFICI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lbertus Medium"/>
              </a:rPr>
              <a:t>67,8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 flipH="1">
            <a:off x="0" y="152388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233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234" name=""/>
          <p:cNvSpPr/>
          <p:nvPr/>
        </p:nvSpPr>
        <p:spPr>
          <a:xfrm>
            <a:off x="716760" y="380880"/>
            <a:ext cx="715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11- L’AVER IDEATO, ORGANIZZATO O SOSTENU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INIZIATIVE CULTURALI HA PORTATO DEI BENEFIC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ALLA SUA AZIEND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73000" y="2111400"/>
          <a:ext cx="7651800" cy="374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2111400"/>
                    <a:ext cx="765180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5029200" y="20574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77,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43200" y="449568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13,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2819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9,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55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813600" y="380880"/>
            <a:ext cx="756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2 - LEI RITIENE CHE MONDO DELL’IMPRESA E MOND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DELLA CULTURA SIANO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65040" y="1079640"/>
          <a:ext cx="8508960" cy="51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040" y="1079640"/>
                    <a:ext cx="85089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8077320" y="4419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 flipH="1">
            <a:off x="0" y="152388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244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245" name=""/>
          <p:cNvSpPr/>
          <p:nvPr/>
        </p:nvSpPr>
        <p:spPr>
          <a:xfrm>
            <a:off x="762120" y="380880"/>
            <a:ext cx="77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11a - CHE TIPO DI BENEFICI HA PORTATO ALLA SUA AZIENDA L’AVER IDEATO, ORGANIZZATO O SOSTENUTO INIZIATIVE CULTURALI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1111320"/>
          <a:ext cx="8763120" cy="559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111320"/>
                    <a:ext cx="876312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8153280" y="4876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 flipH="1">
            <a:off x="0" y="152388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253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graphicFrame>
        <p:nvGraphicFramePr>
          <p:cNvPr id="254" name=""/>
          <p:cNvGraphicFramePr/>
          <p:nvPr/>
        </p:nvGraphicFramePr>
        <p:xfrm>
          <a:off x="158760" y="1066680"/>
          <a:ext cx="8826480" cy="548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760" y="1066680"/>
                    <a:ext cx="88264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8229600" y="42670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0400" y="380880"/>
            <a:ext cx="798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11b - PER QUALE MOTIVO L’AVER IDEATO, ORGANIZZA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O SOSTENUTO INIZIATIVE CULTURALI NON HA PORTA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BENEFICI ALLA SUA AZIEND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262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886320" y="380880"/>
            <a:ext cx="74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12 - LA CULTURA RAPPRESENTA UNA OPPORTUNITA’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COMUNICAZIONAL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984240" y="1778040"/>
          <a:ext cx="7270920" cy="42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4240" y="1778040"/>
                    <a:ext cx="727092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5257800" y="20574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87,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426708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9,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24382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3,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273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684360" y="380880"/>
            <a:ext cx="780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66"/>
                </a:solidFill>
                <a:latin typeface="Albertus Medium"/>
              </a:rPr>
              <a:t>12a - PERCHE’ LA CULTURA RAPPRESENTA UNA REALTA’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66"/>
                </a:solidFill>
                <a:latin typeface="Albertus Medium"/>
              </a:rPr>
              <a:t>COMUNICAZIONAL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79640" y="1746360"/>
          <a:ext cx="7286400" cy="41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9640" y="1746360"/>
                    <a:ext cx="728640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1905120" y="1523880"/>
            <a:ext cx="28954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lbertus Medium"/>
              </a:rPr>
              <a:t>PERCHE’ LA 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lbertus Medium"/>
              </a:rPr>
              <a:t>COINVOLGE TU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66"/>
                </a:solidFill>
                <a:latin typeface="Albertus Medium"/>
              </a:rPr>
              <a:t>32,6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3200400"/>
            <a:ext cx="3429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lbertus Medium"/>
              </a:rPr>
              <a:t>PERCHE’ GARANTISCE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lbertus Medium"/>
              </a:rPr>
              <a:t>RITORNO D’IMMA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66"/>
                </a:solidFill>
                <a:latin typeface="Albertus Medium"/>
              </a:rPr>
              <a:t>57,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358128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lbertus Medium"/>
              </a:rPr>
              <a:t>A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lbertus Medium"/>
              </a:rPr>
              <a:t>9,9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284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285" name=""/>
          <p:cNvSpPr/>
          <p:nvPr/>
        </p:nvSpPr>
        <p:spPr>
          <a:xfrm>
            <a:off x="756360" y="380880"/>
            <a:ext cx="73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66"/>
                </a:solidFill>
                <a:latin typeface="Albertus Medium"/>
              </a:rPr>
              <a:t>12b - PERCHE’ LA CULTURA NON RAPPRESENTA U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66"/>
                </a:solidFill>
                <a:latin typeface="Albertus Medium"/>
              </a:rPr>
              <a:t>REALTA’ COMUNICAZIONAL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74600" y="1371600"/>
          <a:ext cx="8842320" cy="518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600" y="1371600"/>
                    <a:ext cx="88423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8305920" y="15238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293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294" name=""/>
          <p:cNvSpPr/>
          <p:nvPr/>
        </p:nvSpPr>
        <p:spPr>
          <a:xfrm>
            <a:off x="478080" y="380880"/>
            <a:ext cx="78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13 - LA SUA AZIENDA COMUNICA I PROPRI INTERVENTI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LE PROPRIE INIZIATIVE ATTRAVERSO LA PUBBLICITA’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206360" y="1793880"/>
          <a:ext cx="6778800" cy="423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6360" y="1793880"/>
                    <a:ext cx="677880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5486400" y="259092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50,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09680" y="251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49,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303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304" name=""/>
          <p:cNvSpPr/>
          <p:nvPr/>
        </p:nvSpPr>
        <p:spPr>
          <a:xfrm>
            <a:off x="371160" y="380880"/>
            <a:ext cx="800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14 - LA SUA AZIENDA CONSERVA IN MODO SISTEMATIC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ED ORGANIZZATO MATERIALE SULLA PROPRIA STOR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873000" y="1676520"/>
          <a:ext cx="7143840" cy="41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1676520"/>
                    <a:ext cx="714384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5257800" y="34290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74,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243828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24,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600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1,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314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315" name=""/>
          <p:cNvSpPr/>
          <p:nvPr/>
        </p:nvSpPr>
        <p:spPr>
          <a:xfrm>
            <a:off x="1025640" y="380880"/>
            <a:ext cx="665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15 - LA SUA AZIENDA CONSERVA IL MATERIA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IN QUESTIONE ATTRAVERS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968400" y="1603440"/>
          <a:ext cx="7524720" cy="42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8400" y="1603440"/>
                    <a:ext cx="752472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3581280" y="4343400"/>
            <a:ext cx="1905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lbertus Medium"/>
              </a:rPr>
              <a:t>UN ARCHIV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lbertus Medium"/>
              </a:rPr>
              <a:t>SOLO CARTAC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lbertus Medium"/>
              </a:rPr>
              <a:t>57,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1447920"/>
            <a:ext cx="1981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lbertus Medium"/>
              </a:rPr>
              <a:t>UN ARCHIV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lbertus Medium"/>
              </a:rPr>
              <a:t>SIA CARTAC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lbertus Medium"/>
              </a:rPr>
              <a:t>CHE ELETTRO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lbertus Medium"/>
              </a:rPr>
              <a:t>35,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38680" y="1752480"/>
            <a:ext cx="152424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lbertus Medium"/>
              </a:rPr>
              <a:t>UN ARCHIV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lbertus Medium"/>
              </a:rPr>
              <a:t>SO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lbertus Medium"/>
              </a:rPr>
              <a:t>ELETTRO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lbertus Medium"/>
              </a:rPr>
              <a:t>4,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20120" y="2362320"/>
            <a:ext cx="8380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lbertus Medium"/>
              </a:rPr>
              <a:t>AL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lbertus Medium"/>
              </a:rPr>
              <a:t>1,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91520" y="3276720"/>
            <a:ext cx="12189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lbertus Medium"/>
              </a:rPr>
              <a:t>CARTAC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lbertus Medium"/>
              </a:rPr>
              <a:t>+ VIDE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lbertus Medium"/>
              </a:rPr>
              <a:t>1,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2209680"/>
            <a:ext cx="101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2514600"/>
            <a:ext cx="30492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329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330" name=""/>
          <p:cNvSpPr/>
          <p:nvPr/>
        </p:nvSpPr>
        <p:spPr>
          <a:xfrm>
            <a:off x="273960" y="457200"/>
            <a:ext cx="815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16 - LA SUA AZIENDA PREVEDE ATTIVITA’ DI FORMAZION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AGGIORNAMENTO CULTURALE  PER I PROPRI MANAGER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063800" y="1857240"/>
          <a:ext cx="7080120" cy="417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3800" y="1857240"/>
                    <a:ext cx="7080120" cy="41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5257800" y="167652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21,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4290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78,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339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340" name=""/>
          <p:cNvSpPr/>
          <p:nvPr/>
        </p:nvSpPr>
        <p:spPr>
          <a:xfrm>
            <a:off x="1145520" y="380880"/>
            <a:ext cx="726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17 - NELLA SUA AZIENDA ESISTE UN RESPONSABI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DELLE ATTIVITA’ CULTURALI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746280" y="1714680"/>
          <a:ext cx="7746840" cy="438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280" y="1714680"/>
                    <a:ext cx="7746840" cy="43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5029200" y="144792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11,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90920" y="380988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88,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66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247680" y="380880"/>
            <a:ext cx="833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3 - SECONDO LEI, LA CULTURA TRADIZIONALMENTE INT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RAPPRESENTA UN VALORE PER IL MONDO DELL’IMPRES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222200" y="1968480"/>
          <a:ext cx="6985080" cy="400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22200" y="1968480"/>
                    <a:ext cx="698508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4572000" y="3962520"/>
            <a:ext cx="990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86,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1828800"/>
            <a:ext cx="990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13,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flipH="1">
            <a:off x="0" y="152388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78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269280" y="351000"/>
            <a:ext cx="883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4 - LA SUA AZIENDA UTILIZZA FORME DI COMUNICAZI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AL FINE DI ATTRIBUIRE PESO CULTURALE AI PROPRI PRODOT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O SERVIZI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920880" y="1984320"/>
          <a:ext cx="7350120" cy="404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20880" y="1984320"/>
                    <a:ext cx="735012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562720" y="2819520"/>
            <a:ext cx="990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55,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2666880"/>
            <a:ext cx="990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44,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88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graphicFrame>
        <p:nvGraphicFramePr>
          <p:cNvPr id="89" name=""/>
          <p:cNvGraphicFramePr/>
          <p:nvPr/>
        </p:nvGraphicFramePr>
        <p:xfrm>
          <a:off x="1676520" y="1295280"/>
          <a:ext cx="7391160" cy="50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1295280"/>
                    <a:ext cx="73911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flipH="1">
            <a:off x="0" y="137304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0" y="15408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1905120"/>
          <a:ext cx="1524240" cy="10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1905120"/>
                    <a:ext cx="15242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371600" y="167652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lbertus Medium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lbertus Medium"/>
              </a:rPr>
              <a:t>55,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666880"/>
            <a:ext cx="533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lbertus Medium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lbertus Medium"/>
              </a:rPr>
              <a:t>44,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4080" y="228600"/>
            <a:ext cx="841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4a - LA SUA AZIENDA UTILIZZA FORME DI COMUNICAZI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AL FINE DI ATTRIBUIRE PESO CULTURALE AI PROPR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PRODOTTI O SERVIZI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100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228600" y="228600"/>
            <a:ext cx="8686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lbertus Medium"/>
              </a:rPr>
              <a:t>4b - QUALI FORME DI COMUNICAZIONE UTILIZZA LA SUA AZIENDA </a:t>
            </a: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AL FINE DI ATTRIBUIRE PESO CULTURALE AI PROPRI PRODOTTI O SERVIZI </a:t>
            </a:r>
            <a:r>
              <a:rPr b="1" lang="en-US" sz="2300" spc="-1" strike="noStrike">
                <a:solidFill>
                  <a:srgbClr val="003366"/>
                </a:solidFill>
                <a:latin typeface="Albertus Medium"/>
              </a:rPr>
              <a:t>?</a:t>
            </a: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990720"/>
          <a:ext cx="8985240" cy="541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90720"/>
                    <a:ext cx="898524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8153280" y="43434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0" y="137304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0" y="15408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flipH="1">
            <a:off x="0" y="1447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111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470880" y="290520"/>
            <a:ext cx="83419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lbertus Medium"/>
              </a:rPr>
              <a:t>4c - PER QUALE MOTIVO L’AZIENDA NON RICORRE 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lbertus Medium"/>
              </a:rPr>
              <a:t>FORME DI COMUNICAZIONE FINALIZZATE ALL’ATTRIBUZION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lbertus Medium"/>
              </a:rPr>
              <a:t>DI PESO CULTURALE AI PROPRI PRODOTTI O SERVIZI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2120" y="685800"/>
          <a:ext cx="8763120" cy="58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2120" y="685800"/>
                    <a:ext cx="87631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8229600" y="4191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120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87080" y="380880"/>
            <a:ext cx="790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5 - L’IDEA DI ATTUARE TALI FORME DI COMUNICAZI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NASC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47600" y="1793880"/>
          <a:ext cx="6937560" cy="423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7600" y="1793880"/>
                    <a:ext cx="693756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752480" y="1600200"/>
            <a:ext cx="2438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lbertus Medium"/>
              </a:rPr>
              <a:t>DA CONSULEN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lbertus Medium"/>
              </a:rPr>
              <a:t>ESTER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lbertus Medium"/>
              </a:rPr>
              <a:t>16,2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3581280"/>
            <a:ext cx="2438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lbertus Medium"/>
              </a:rPr>
              <a:t>INTERN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lbertus Medium"/>
              </a:rPr>
              <a:t>ALL’AZI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lbertus Medium"/>
              </a:rPr>
              <a:t>83,8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0" y="304920"/>
            <a:ext cx="9144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6248520"/>
            <a:ext cx="1219320" cy="4572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1066680" cy="285840"/>
          </a:xfrm>
          <a:prstGeom prst="rect">
            <a:avLst/>
          </a:prstGeom>
          <a:ln w="0">
            <a:noFill/>
          </a:ln>
        </p:spPr>
      </p:pic>
      <p:pic>
        <p:nvPicPr>
          <p:cNvPr id="130" name="civitalogo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00040" cy="6098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626400" y="380880"/>
            <a:ext cx="73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6 - LA SUA AZIENDA HA MAI SOSTENUTO INIZIATI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lbertus Medium"/>
              </a:rPr>
              <a:t>CULTURALI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127160" y="1447920"/>
          <a:ext cx="7407360" cy="442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27160" y="1447920"/>
                    <a:ext cx="740736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5638680" y="2743200"/>
            <a:ext cx="990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58,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362320"/>
            <a:ext cx="15242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NO, M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lbertus Medium"/>
              </a:rPr>
              <a:t>41,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08:32:41Z</dcterms:created>
  <dc:creator>UNCAB 2001</dc:creator>
  <dc:description/>
  <dc:language>en-US</dc:language>
  <cp:lastModifiedBy>mr.delliquadri</cp:lastModifiedBy>
  <dcterms:modified xsi:type="dcterms:W3CDTF">2003-03-19T08:16:26Z</dcterms:modified>
  <cp:revision>90</cp:revision>
  <dc:subject/>
  <dc:title>Presentazione di PowerPoint</dc:title>
</cp:coreProperties>
</file>